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936F9-CD73-43FF-A538-4F6573468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34059-52B5-41BF-A919-936B533E1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07EA3-71DE-455C-8A85-A91636CDE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AE392-B225-4413-8E2C-3E66F2AB1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0295-DF43-4085-A3C2-1665C5692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745DC-6692-4CC5-B3C2-E405F97EE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E3C56-E80A-4F17-800D-D7D815778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1F406-92EB-4623-92B1-4BC554DFD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8FF8-BB8C-4B4B-8ED3-9BE64EC9C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5A7A-EB6E-4AB6-A729-C7CD72E76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D5367-6584-4AF9-B385-137CBCAEA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D6E5E-516E-4F0A-86BE-CA857E6E2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31E2A-0330-4A81-B2F6-13D245C63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956C3-BF43-4067-9338-C322F087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DFB92-D432-469F-BB41-B4BFA5EB1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9149D-218F-4429-BB58-4C02ED0EB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EC9D-2B61-46FF-A879-F8A84D339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4915-25C6-43ED-9503-F38DDF7F7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7DCC9-F77B-4A30-BA91-DC946B146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649F5-166C-423E-81DE-AA576D95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C0E80-FC39-4851-A905-D39A60577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7EDF7-3DAD-4F58-826F-7E7D32B62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AE2F7-1EB3-43BA-BC9C-671E44314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A4DB9-5D3F-4F05-8A2A-4E1EFE9C6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1A70-428E-4F06-B84D-A4F9B52D5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AC8E4-1C5D-485F-B713-E7F95DB1E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DCAF3-2F16-4366-8FE8-DFFD081AC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FF71A-55E4-4B2D-9EA2-647743C46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7B585-9907-4AFD-A7CB-FE7C9B3F8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D9FC-D0F9-4DDF-ACCC-0E43B83F0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FE61-2B06-4B08-9B1A-E236ADED7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CCB78-FEC2-498A-B999-A0DADD980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FFC8E-02CA-43F2-A191-B30C2DAB4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EB030-6AFF-46D1-95A6-9C3549AC0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668F-1B9C-4C8F-A3F4-8538FB3B4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6531-559A-4FF2-9DD4-BCB19F65D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D123-498C-4901-BF73-1509F54E3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E922-CFA6-4E43-9270-DC8F4A5F6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1857-A9C5-4BF9-81E6-5CFE678C2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50D-81B9-4E09-B6E4-B2740A85A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E3BE-2431-4626-89E1-3E1B067B4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8FCE-C63F-4B60-9AD9-AD2B22F3F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1F5F-8792-41CA-B648-93C0FDCAE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328F-3D70-45DA-B764-A8C0BF12C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0834-C2A8-4CCC-AA29-6707B40B8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CA74-83F5-4F73-9C33-7A5720D85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E2AAC-D356-46EF-884C-1159EDD5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: </a:t>
            </a:r>
            <a:br>
              <a:rPr sz="36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How is SQL related to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4572000"/>
            <a:ext cx="9097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20640" y="24843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iewing relational datab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s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417680"/>
            <a:ext cx="90709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brother(Y,X)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  (</a:t>
            </a:r>
            <a:r>
              <a:rPr b="0" lang="et-EE" sz="2800" spc="-1" strike="noStrike">
                <a:solidFill>
                  <a:srgbClr val="c9211e"/>
                </a:solidFill>
                <a:latin typeface="Arial"/>
              </a:rPr>
              <a:t>?? check !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=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?? 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father(john)=pe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then just replace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-&gt;  e(Y,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&amp; e(Y,Z)  -&gt;  e(X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father(X,Z)  -&gt;  father(Y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father(Z,X)  -&gt;  father(Z,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e(father(X),Z) -&gt; e(father(Y)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and theori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ithmetics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+ *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etc: procedural attachments (procedural data repres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String, list, date, f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etc etc proc attach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built-in theories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like Presburger arithme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olvers focusing on procedural attachments and built-in theories are call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MT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solvers: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olvers modulo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id       name 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1, john, 10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2, pete, -20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2637000"/>
            <a:ext cx="9070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remar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client(I, N, B)  &amp; B&lt;0   -&gt;  answer(N,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? answer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QL join as logic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lient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                        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ars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  name    balance                   id    model 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 john      100                         1      ford      1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 pete       -200                       2      opel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 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client(I, N, B)  &amp; cars(J, M, I)  -&gt;  ans(N, 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+(*(1.9, 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3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.9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hese things require extra care when encoding in logi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null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osed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values in two different locations are never equal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ient(1, jaan, null)  and car(1, opel, null) then null in client is not equal to null in 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null represents an existentially quantified v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xists X. client(1, jaan, 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xists X. car(1, opel, 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ould mean in lo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name(1) =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name(2) = 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balance(1) = 100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 table withou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wo identical facts in logic mean a single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payments(1, 100)  …. payments(1, 100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assical logic is </a:t>
            </a:r>
            <a:r>
              <a:rPr b="1" lang="et-EE" sz="2600" spc="-1" strike="noStrike">
                <a:solidFill>
                  <a:srgbClr val="c9211e"/>
                </a:solidFill>
                <a:latin typeface="Arial"/>
              </a:rPr>
              <a:t>open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  <a:ea typeface="DejaVu Sans"/>
              </a:rPr>
              <a:t>We know N facts. We do NOT say that only these N facts hold: maybe there are M more facts which are true but which we do not k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In databases we normally assume that world is </a:t>
            </a:r>
            <a:r>
              <a:rPr b="1" lang="et-EE" sz="2600" spc="-1" strike="noStrike">
                <a:solidFill>
                  <a:srgbClr val="c9211e"/>
                </a:solidFill>
                <a:latin typeface="Arial"/>
              </a:rPr>
              <a:t>closed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Only these facts hold which we know. For example, we assume that all the payments performed are in our database. This allows us to us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aggregate functions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like sum, avg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 is knowing „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" (e.g., that Washington D.C. is the capital of Americ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d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fac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1&lt;123 || X2&lt;65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sod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o strict demarca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our b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1768320"/>
            <a:ext cx="907092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me initially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la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onverte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/ optim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2a6099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arative knowledge converted to procedura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 eas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on an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/>
  <dcterms:modified xsi:type="dcterms:W3CDTF">2022-02-01T06:03:47Z</dcterms:modified>
  <cp:revision>35</cp:revision>
  <dc:subject/>
  <dc:title>Knowledge representation  lecture 1: intro and overview</dc:title>
</cp:coreProperties>
</file>